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8D2-A756-46AA-9745-44312D64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2D1-8683-40BC-AA49-D881577D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CCC-859A-409B-8FA5-5C2EC7A4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BC2-E43C-4BA4-8E27-03310A24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910B-9121-481C-ACF3-BE2B2101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C2B3-0A75-4161-8143-329426CC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D58-E92B-484D-9FAF-7D9ED87B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0729-9D4A-44CF-9DAA-683B1F83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6A8B-6602-47DC-A5EB-20A8E5C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9F54-CD3B-42C8-B398-D35A1F15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9183-29E1-4F67-B046-8BA35D9F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F18-8A74-444B-AD7E-6A8D40D4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1FCB-A6D2-4382-9AF8-AE523A7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F51B-89F6-430D-8CC3-3837FD1D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94FB-53C4-4E7A-B6FA-9E313D0D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2A30-A238-4E6D-AE64-609B3EDA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95F0-A129-4C07-BC4D-7C06C66D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4CD-41A1-468B-9312-9E858FF4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4DC-E871-4DFF-87D1-25A345E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E2D-C116-4796-A7F7-A6E06233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7C6-85BA-431E-8141-D99B78FC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C29-070A-4580-9848-A60C4354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6E7-DCF1-43E3-BD66-DCEACD4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015-121D-460D-9418-E6355FD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7702-9A90-4DCD-8D25-10223C8CCD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A8E4-5061-4FC3-8354-EFF0833AF0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Origins of </a:t>
            </a:r>
            <a:r>
              <a:rPr b="0" i="1" lang="en-US" sz="5400" spc="-1" strike="noStrike">
                <a:solidFill>
                  <a:srgbClr val="dbbd71"/>
                </a:solidFill>
                <a:latin typeface="Arial"/>
              </a:rPr>
              <a:t>Hamle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end.  Hootie says hi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9880" y="5335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is widely accepted that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the play that ensured Shakespeare’s immortalit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lay has become synonymous with REVENGE, but that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totally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esn’t do it justic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4560" y="1600200"/>
            <a:ext cx="30607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4952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NOT Shakespeare’s inven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ch of his audience would already have been familiar with the 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makes the plot subordinate to character development and the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452760" cy="4648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Ur-Hamle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tle refers to all previous incarnations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also to Francois Belleforest’s rendition of the 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have Scandinavian orig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3560" y="1752480"/>
            <a:ext cx="3273480" cy="403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Hamlet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timel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– earliest known refence to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gend, in an Icelandic po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istoriae Danica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historian Saxo Grammaticus.  Hamlet was called Amle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70 – Belleforest’s version appears in his colle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istoires Tragiq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90 – Thomas Kyd’s production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popular in Eng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03 – First production of Shakespeare’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, Prince of Denmar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volution of the 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the Norse legend, Hamlet, or Amlothi, translates to “desperate in battle” or “simpleton”, indicating that a motif of madness was already in pla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axo’s version includes feigned madness, the pursuit of a courtesan (early Ophelia), and Hamlet kills the king of Norway in single comb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rther evolution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lleforest’s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Ur-Hamle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ncludes the dumb show (Act III), the fencing match, incest, and the gho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all the earlier incarnations focus rather simply on revenge and bloodlust.  Even Belleforest’s ghost is a simple figure, causing none of the metaphysical angst that we see in Billy Shakes’ pla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ood for thought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!  If the plot wasn’t fresh or new, what  dramatic element should require the most consideration from the audienc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606760" cy="3733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Keep the question of </a:t>
            </a:r>
            <a:r>
              <a:rPr b="0" i="1" lang="en-US" sz="4000" spc="-1" strike="noStrike">
                <a:solidFill>
                  <a:srgbClr val="dbbd71"/>
                </a:solidFill>
                <a:latin typeface="Arial"/>
              </a:rPr>
              <a:t>Hamlet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’s legacy in the back of your mind, as this will be the subject of your final analytical essay for this unit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(Shoulda seen it coming…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11520" y="3962520"/>
            <a:ext cx="2189160" cy="2590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2:56:39Z</dcterms:created>
  <dc:creator>Lawrence Public Schools</dc:creator>
  <dc:description/>
  <dc:language>en-US</dc:language>
  <cp:lastModifiedBy>Lawrence Public Schools</cp:lastModifiedBy>
  <dcterms:modified xsi:type="dcterms:W3CDTF">2008-03-13T13:25:33Z</dcterms:modified>
  <cp:revision>2</cp:revision>
  <dc:subject/>
  <dc:title>Origins of Hamlet</dc:title>
</cp:coreProperties>
</file>